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D09B-6000-4FBE-8628-EAAB093C1A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BCFF-264C-44CA-997F-2610CAEF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35F9-D44A-4E99-8E0D-26C064C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8DC21-BFBA-44FD-AFE1-192C645388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FD77-487F-477D-8673-DA420D3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2441-DB14-42DC-918F-6B1C2FF1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6BAD-463D-4FB7-B363-921A4BEA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B932-5428-4BDB-8361-521DA1CE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6D6B-29A5-46BF-A5A7-7459B922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EF5C-87BE-4F92-8030-8C596AB1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0506-789B-4943-8CF7-A4C8D80B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FE83-B8C6-412B-81F4-AE2FDBDF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1471-BC68-4240-883A-F18FFE81FC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ave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ave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50Z</dcterms:modified>
  <cp:revision>32</cp:revision>
  <dc:subject/>
  <dc:title>  </dc:title>
</cp:coreProperties>
</file>